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2c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9C36-6D10-44D0-9AAF-5D36A9A34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5E80-8E7D-40F6-9D74-47B297E7A863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33BF-2196-49A2-8964-B95658D748FE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7D86-8D19-4357-B80B-C7B7E8B32524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3EEF-3532-4724-BEC7-85DED3D6EF19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4B92-AD11-48AE-8582-09C8EA793002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DCBF-F527-4690-9FE8-A53A99F75C1D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E2E2-37B0-47A9-9011-6F69F3D7F84C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28D-CA44-4C52-B827-4AA6E7AD5C9B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ix LHNs are based on the six regions in country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B199-8CC3-4E43-BF61-9E3B06F2D4A0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0B56-6C5A-4A40-A403-D660BA7A8F98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AD49-0D74-42CB-A574-1461AFD3ED87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5881-A357-4DDF-A98E-267FE15757FB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2E85-DEB5-4B14-A8BE-247FE687BA5D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D9FB-2FEE-4B26-BEB1-6A1DB04FE93C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3BC8-A6B6-4565-8100-D08A1D466CEC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A777-6BB9-4F0C-BA70-AE917AE90715}" type="slidenum">
              <a:rPr b="0" lang="en-US" sz="1200" spc="-1" strike="noStrike">
                <a:solidFill>
                  <a:srgbClr val="aca09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342-CBFD-45B1-A9B0-FEC7F7A9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56000" y="392148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987-39C9-4740-9187-69B3BDC2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294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063-62AC-4103-84B5-5FE3291C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976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352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5600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4976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352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DAC-F040-4143-8ED1-5D6AE8D8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56000" y="27432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548-15BE-4D60-A9C7-839AE155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294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56000" y="392148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294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976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3520" y="155736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5600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4976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43520" y="3921480"/>
            <a:ext cx="199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A0A-2CAC-46EF-A1EC-DF057C3B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73F-D009-4B46-A302-E6044F5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CC5-801E-4FA4-9144-17594141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56000" y="27432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FF0-C842-4745-BD81-34EFEFB2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1F7-3DEB-4C96-95C8-FD5D1D51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29400" y="392148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2BA-19FD-4DD8-BE29-9FFCBC02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29400" y="1557360"/>
            <a:ext cx="302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56000" y="3921480"/>
            <a:ext cx="61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ABB-1FB3-41C1-A5AB-F78157E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-6480" y="0"/>
            <a:ext cx="22748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2c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2c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aca095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aca095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2560" y="607176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5beb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5beb7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6204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4256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5beb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3F6B-AA1F-4642-8666-C44CCD10F640}" type="slidenum">
              <a:rPr b="0" lang="en-US" sz="900" spc="-1" strike="noStrike">
                <a:solidFill>
                  <a:srgbClr val="c5beb7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315200" y="6327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7b0"/>
                </a:solidFill>
                <a:latin typeface="Arial"/>
                <a:ea typeface="Arial"/>
              </a:rPr>
              <a:t>SA Health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A-Health-rev-1-450px.png"/>
          <p:cNvPicPr/>
          <p:nvPr/>
        </p:nvPicPr>
        <p:blipFill>
          <a:blip r:embed="rId3"/>
          <a:stretch/>
        </p:blipFill>
        <p:spPr>
          <a:xfrm>
            <a:off x="7164360" y="5122800"/>
            <a:ext cx="144000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2c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56000" y="1557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2cf"/>
              </a:buClr>
              <a:buSzPct val="8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aca095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aca095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360" y="1412640"/>
            <a:ext cx="5875200" cy="20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 Health Governance Reform Updat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00360" y="2708280"/>
            <a:ext cx="590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e Rob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 Governance Reform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ay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le 1"/>
          <p:cNvSpPr/>
          <p:nvPr/>
        </p:nvSpPr>
        <p:spPr>
          <a:xfrm>
            <a:off x="2124000" y="549360"/>
            <a:ext cx="7116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Eyre and Far North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2266920" y="1576440"/>
            <a:ext cx="6408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Michele Smith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anne Dunchue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ruce Gree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na Miller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 David Mill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mie Siviour OAM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is Sweet 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Verity Paterso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le 1"/>
          <p:cNvSpPr/>
          <p:nvPr/>
        </p:nvSpPr>
        <p:spPr>
          <a:xfrm>
            <a:off x="2266920" y="549360"/>
            <a:ext cx="6973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Flinders and Upper North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2266920" y="1576440"/>
            <a:ext cx="5616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Bevan Francis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arnett Brady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sy Graham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hn Lynch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rri Malone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aryn Reid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rk Whitfield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Ros McRae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le 1"/>
          <p:cNvSpPr/>
          <p:nvPr/>
        </p:nvSpPr>
        <p:spPr>
          <a:xfrm>
            <a:off x="2266920" y="549360"/>
            <a:ext cx="6973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Riverland Mallee Coorong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2266920" y="1576440"/>
            <a:ext cx="5616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Dr Peter Joyner OAM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laine Ashworth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audia Goldsmith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lanie Ottaway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ed Toogood 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Wayne Champion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2266920" y="549360"/>
            <a:ext cx="6973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South East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2266920" y="1576440"/>
            <a:ext cx="5616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Grant King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lenn Brown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dy Cook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hn Irving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 Anne Johnson AM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 Andrew Saies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Ngaire Buchana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2268360" y="549360"/>
            <a:ext cx="6972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Yorke and Northern Local Health Network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2268360" y="1608120"/>
            <a:ext cx="5616720" cy="38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Vanessa Boull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ulianne Badenoch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ane Mohor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z Malcolm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hn Voumard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vonne Warncken 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Roger Kirchner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2340000" y="333360"/>
            <a:ext cx="576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Aboriginal Health from 1 July 2019: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Regional LHN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1835280" y="1413000"/>
            <a:ext cx="705780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x new positions of Director of Aboriginal Health proposed – one for each LH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rector proposed to: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 directly to the LHN Chief Executive Officer and sit on the Executive Leadership Team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responsible for Aboriginal Health Services including projects, collaboration and partnerships, strategy, monitoring and standards, and lead regionally-based teams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m to build capacity and capability in the region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tle 1"/>
          <p:cNvSpPr/>
          <p:nvPr/>
        </p:nvSpPr>
        <p:spPr>
          <a:xfrm>
            <a:off x="2484360" y="260280"/>
            <a:ext cx="61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Aboriginal Health from 1 July 2019: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Rural Support Service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2050920" y="1197000"/>
            <a:ext cx="684216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rector of Aboriginal Health and small team proposed to support high-level strategic planning, policy, consumer engagement and advocacy services on a country-wide basi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m to strengthen collaboration, networking, and the ability of the regional LHNs to support local communitie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tailed design of the new LHNs and Rural Support Service will be finalised shortly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portunities to engage with these new organisations from the start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1"/>
          <p:cNvSpPr/>
          <p:nvPr/>
        </p:nvSpPr>
        <p:spPr>
          <a:xfrm>
            <a:off x="2268360" y="549360"/>
            <a:ext cx="6972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Aboriginal Health Community and Consumer Engagement Strategy (AHCCE)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2268360" y="1557360"/>
            <a:ext cx="672336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ponding to HPC strategy review, AHCCE Strategy has been embedded in Country Health’s overall Consumer and Community Engagement (CCE) Strategy, to ensure its longevity and binding applicatio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onsumer and Community Engagement Strategy will play a key role in informing each regional Board as they develop and implement their engagement strategies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portunities to engage with the new LHNs and influence the development of those strategies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43360" y="2420640"/>
            <a:ext cx="508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0092cf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0092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92cf"/>
                </a:solidFill>
                <a:latin typeface="Arial"/>
              </a:rPr>
              <a:t>What is happening?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24000" y="1434600"/>
            <a:ext cx="6840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m 1 July 2019, six regional Local Health Networks (LHNs) will replace Country Health SA L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ach LHN will be led by a skills-based Governing Board, responsible and accountable for managing and providing health services in country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Rural Support Service will provide clinical and corporate advice and expertise once for all six – hosted by one of the regional LH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92cf"/>
                </a:solidFill>
                <a:latin typeface="Arial"/>
              </a:rPr>
              <a:t>How did we get here? 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7640" y="1504440"/>
            <a:ext cx="640908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ate Government 2018 election commitme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olve the public health system through the establishment of Statewide, Metropolitan and Regional LHN Governing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 responsibility and accountability at the local level, with strengthened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 patient safety and hold Governing Boards accountable for delivering real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5793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63840" y="-5040"/>
            <a:ext cx="6572160" cy="13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92cf"/>
                </a:solidFill>
                <a:latin typeface="Arial"/>
              </a:rPr>
              <a:t>      </a:t>
            </a:r>
            <a:r>
              <a:rPr b="0" lang="en-AU" sz="3200" spc="-1" strike="noStrike">
                <a:solidFill>
                  <a:srgbClr val="0092cf"/>
                </a:solidFill>
                <a:latin typeface="Arial"/>
              </a:rPr>
              <a:t>Expected Benefits  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2556000" y="1197000"/>
            <a:ext cx="556416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improve value in terms of quality and safety of services, costs and service accessibilit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increase clinician and community engagement in service deliver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ensure greater service responsiveness and innovation in the way services are provided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increase community confidence in the State’s public health system.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</p:txBody>
      </p:sp>
      <p:pic>
        <p:nvPicPr>
          <p:cNvPr id="99" name="Picture 5" descr="See the source image"/>
          <p:cNvPicPr/>
          <p:nvPr/>
        </p:nvPicPr>
        <p:blipFill>
          <a:blip r:embed="rId1"/>
          <a:stretch/>
        </p:blipFill>
        <p:spPr>
          <a:xfrm>
            <a:off x="4457880" y="5445000"/>
            <a:ext cx="1758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2cf"/>
                </a:solidFill>
                <a:latin typeface="Arial"/>
              </a:rPr>
              <a:t>Progress to date </a:t>
            </a:r>
            <a:endParaRPr b="0" lang="en-US" sz="3200" spc="-1" strike="noStrike">
              <a:solidFill>
                <a:srgbClr val="0092c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84000" y="90792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onal LHN Chairs, Chief Executives and Board Members appointed and working to support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onal LHN Boards have started to meet in transition rol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LHNs and Rural Support Service functions and structures designed and consulted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ation underway to transition staff and functions to new arrange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spcAft>
                <a:spcPts val="100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taff to be realigned to the LHNs or Rural Suppor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2627280" y="404640"/>
            <a:ext cx="636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Governance: LHN Board Composition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2268360" y="1125360"/>
            <a:ext cx="648036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tween six to eight members, appointed on merit, with experience/expertise in at least one of the following areas: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management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nical governance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ercial management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ncial management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w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sion of health services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 other relevant experience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wo must be health professionals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ne must have expertise, knowledge or experience in Aboriginal health</a:t>
            </a: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374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aca095"/>
              </a:solidFill>
              <a:latin typeface="Arial"/>
            </a:endParaRPr>
          </a:p>
          <a:p>
            <a:pPr lvl="1" marL="601560" indent="-231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5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le 1"/>
          <p:cNvSpPr/>
          <p:nvPr/>
        </p:nvSpPr>
        <p:spPr>
          <a:xfrm>
            <a:off x="2411280" y="272880"/>
            <a:ext cx="662472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Governance: Governing Board Responsibilitie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2050920" y="1087560"/>
            <a:ext cx="640872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m 1 July 2019, each Board will be accountable for the delivery of health services within its area of responsibility, including: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a095"/>
              </a:solidFill>
              <a:latin typeface="Arial"/>
            </a:endParaRPr>
          </a:p>
        </p:txBody>
      </p:sp>
      <p:pic>
        <p:nvPicPr>
          <p:cNvPr id="106" name="Picture 7" descr="Image result for inspect png"/>
          <p:cNvPicPr/>
          <p:nvPr/>
        </p:nvPicPr>
        <p:blipFill>
          <a:blip r:embed="rId1"/>
          <a:stretch/>
        </p:blipFill>
        <p:spPr>
          <a:xfrm>
            <a:off x="5508720" y="5445000"/>
            <a:ext cx="1800000" cy="1516320"/>
          </a:xfrm>
          <a:prstGeom prst="rect">
            <a:avLst/>
          </a:prstGeom>
          <a:ln w="0">
            <a:noFill/>
          </a:ln>
        </p:spPr>
      </p:pic>
      <p:sp>
        <p:nvSpPr>
          <p:cNvPr id="107" name="Content Placeholder 2"/>
          <p:cNvSpPr/>
          <p:nvPr/>
        </p:nvSpPr>
        <p:spPr>
          <a:xfrm>
            <a:off x="1692360" y="2637000"/>
            <a:ext cx="601344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the health budget for its area of responsibilit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ly engage with its communities and frontline health professional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tiate an annual Service Agreement and monitor and report on progress against key performance targets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2484360" y="260280"/>
            <a:ext cx="6756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Clinician and Consumer Engagement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2268360" y="689040"/>
            <a:ext cx="60487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ca095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oards will be required to develop and publish: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linician engagement strategy to promote consultation with health professionals working in the LH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2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sumer and community engagement strategy to promote consultation with health consumers and the community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51"/>
              </a:spcAft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rategies must be developed in consultation with communities and stakeholders, then implemented, monitored and reviewed regularly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2266920" y="549360"/>
            <a:ext cx="6626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2cf"/>
                </a:solidFill>
                <a:latin typeface="Arial"/>
              </a:rPr>
              <a:t>Barossa Hills Fleurieu LHN from 1 July 2019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2266920" y="1576440"/>
            <a:ext cx="64818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ir: Juliet Brown OAM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u Blackwell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rol Gaston AM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 Roger Sexton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e Ullianich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bert Zadow 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2c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ef Executive Officer: Rebecca Graham</a:t>
            </a:r>
            <a:endParaRPr b="0" lang="en-US" sz="2400" spc="-1" strike="noStrike">
              <a:solidFill>
                <a:srgbClr val="aca0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23:29:55Z</dcterms:created>
  <dc:creator>Cath Steenwyk</dc:creator>
  <dc:description>This is one of 4 colour variations of the SA Health PowerPoint template.</dc:description>
  <cp:keywords>powerpoint presentation sa health templates</cp:keywords>
  <dc:language>en-US</dc:language>
  <cp:lastModifiedBy>Robinson, Jane (Health)</cp:lastModifiedBy>
  <cp:lastPrinted>2018-09-20T06:57:47Z</cp:lastPrinted>
  <dcterms:modified xsi:type="dcterms:W3CDTF">2019-05-08T08:34:28Z</dcterms:modified>
  <cp:revision>315</cp:revision>
  <dc:subject>PowerPoint Template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usiness Unit">
    <vt:lpwstr/>
  </property>
  <property fmtid="{D5CDD505-2E9C-101B-9397-08002B2CF9AE}" pid="3" name="Directorate">
    <vt:lpwstr>Strategy and Reform</vt:lpwstr>
  </property>
  <property fmtid="{D5CDD505-2E9C-101B-9397-08002B2CF9AE}" pid="4" name="Next Review">
    <vt:lpwstr/>
  </property>
  <property fmtid="{D5CDD505-2E9C-101B-9397-08002B2CF9AE}" pid="5" name="PublishingExpirationDate">
    <vt:lpwstr/>
  </property>
  <property fmtid="{D5CDD505-2E9C-101B-9397-08002B2CF9AE}" pid="6" name="PublishingStartDate">
    <vt:lpwstr/>
  </property>
  <property fmtid="{D5CDD505-2E9C-101B-9397-08002B2CF9AE}" pid="7" name="Region">
    <vt:lpwstr>CHSA</vt:lpwstr>
  </property>
  <property fmtid="{D5CDD505-2E9C-101B-9397-08002B2CF9AE}" pid="8" name="Topic">
    <vt:lpwstr>;#Corporate;#</vt:lpwstr>
  </property>
  <property fmtid="{D5CDD505-2E9C-101B-9397-08002B2CF9AE}" pid="9" name="_dlc_DocId">
    <vt:lpwstr>3VDTU7EN5FH7-1752784833-1</vt:lpwstr>
  </property>
  <property fmtid="{D5CDD505-2E9C-101B-9397-08002B2CF9AE}" pid="10" name="_dlc_DocIdItemGuid">
    <vt:lpwstr>d424661e-b98f-4416-9405-8f90ac764e81</vt:lpwstr>
  </property>
  <property fmtid="{D5CDD505-2E9C-101B-9397-08002B2CF9AE}" pid="11" name="_dlc_DocIdUrl">
    <vt:lpwstr>https://sagov.sharepoint.com/sites/CHSA/OurOrg/Comms/_layouts/15/DocIdRedir.aspx?ID=3VDTU7EN5FH7-1752784833-1, 3VDTU7EN5FH7-1752784833-1</vt:lpwstr>
  </property>
</Properties>
</file>