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2c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2ACC-BB63-49E4-A10C-AA3D95FD57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4518-495D-4660-BA00-065707317743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0F25-CBD4-4530-9908-5FD5186D8D1A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7DCB-5676-48F6-807A-3BD1C2A1043E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8C1A-BA66-4663-BE4F-AEE25C0878B7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CBDD-7857-4914-868E-3BB0ABFF2A46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70A7-D23D-46C7-ACED-F737BE335F7B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9272-7393-4B0E-B673-50B61C21A69B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FFAB-F70B-46E5-ABEA-1F78377BDDB3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ix LHNs are based on the six regions in country 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F552-19D7-4BEC-BA5B-BBA9D0838C57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05CD-09D0-49FF-8518-FAD95A0DAA9A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7792-E7B8-464B-BEED-6A2B6EDD110B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02CF-E1F2-49E8-8E4D-561C350D338A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F529-73BF-45C5-B981-998B12BFA256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FD6E-9162-4429-A0DA-D626B309CA8A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D02E-9B71-4932-8BBF-7D169D6FAA50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F6F9-74C9-4D53-8805-6D57FF96C320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4C48-7CAB-4DEC-8136-A018FA59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61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56000" y="3921480"/>
            <a:ext cx="61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931-B098-4FA2-A083-4A76F105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294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56000" y="392148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29400" y="392148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2C0-9B61-4F74-B374-D207E92C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9760" y="155736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43520" y="155736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56000" y="392148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49760" y="392148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43520" y="392148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84B7-D03E-44C9-9E6E-1AAAC1ED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56000" y="155736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302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29400" y="1557360"/>
            <a:ext cx="302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56000" y="274320"/>
            <a:ext cx="619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29400" y="1557360"/>
            <a:ext cx="302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56000" y="392148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56000" y="155736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4077-C906-40A5-9D7B-8C0C1E19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302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294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29400" y="392148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294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56000" y="3921480"/>
            <a:ext cx="61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61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56000" y="3921480"/>
            <a:ext cx="61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294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56000" y="392148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29400" y="392148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9760" y="155736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43520" y="155736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56000" y="392148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49760" y="392148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43520" y="392148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0DB-0F20-4DB8-A628-428DF8C5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302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29400" y="1557360"/>
            <a:ext cx="302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1CA0-1DE3-4244-82F7-43680D3E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EEC-4450-4156-B0E5-96837134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56000" y="274320"/>
            <a:ext cx="619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0D9-0F6A-4B23-AF12-AFC389C2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29400" y="1557360"/>
            <a:ext cx="302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56000" y="392148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4D7-B09C-438A-B9B2-BF3039BE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302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294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29400" y="392148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362E-9F83-4F55-B5E4-F08DC7A6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294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56000" y="3921480"/>
            <a:ext cx="61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BE5-EAB0-46CB-B84A-A6186FAE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"/>
          <p:cNvPicPr/>
          <p:nvPr/>
        </p:nvPicPr>
        <p:blipFill>
          <a:blip r:embed="rId2"/>
          <a:stretch/>
        </p:blipFill>
        <p:spPr>
          <a:xfrm>
            <a:off x="-6480" y="0"/>
            <a:ext cx="22748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2c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56000" y="155736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2cf"/>
              </a:buClr>
              <a:buSzPct val="8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aca095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aca095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2560" y="607176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5beb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5beb7"/>
                </a:solidFill>
                <a:latin typeface="Times New Roman"/>
                <a:ea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62040" y="6500520"/>
            <a:ext cx="28958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4256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5beb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49B1-E58D-45A1-B07B-DEC742D03EA4}" type="slidenum">
              <a:rPr b="0" lang="en-US" sz="900" spc="-1" strike="noStrike">
                <a:solidFill>
                  <a:srgbClr val="c5beb7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315200" y="63277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7b0"/>
                </a:solidFill>
                <a:latin typeface="Arial"/>
                <a:ea typeface="Arial"/>
              </a:rPr>
              <a:t>SA Health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3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SA-Health-rev-1-450px.png"/>
          <p:cNvPicPr/>
          <p:nvPr/>
        </p:nvPicPr>
        <p:blipFill>
          <a:blip r:embed="rId3"/>
          <a:stretch/>
        </p:blipFill>
        <p:spPr>
          <a:xfrm>
            <a:off x="7164360" y="5122800"/>
            <a:ext cx="1440000" cy="1393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2c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556000" y="155736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2cf"/>
              </a:buClr>
              <a:buSzPct val="8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aca095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aca095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0360" y="1412640"/>
            <a:ext cx="5875200" cy="20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y Health Governance Reform Update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700360" y="2708280"/>
            <a:ext cx="59040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e Robin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ry Governance Reform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 May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tle 1"/>
          <p:cNvSpPr/>
          <p:nvPr/>
        </p:nvSpPr>
        <p:spPr>
          <a:xfrm>
            <a:off x="2124000" y="549360"/>
            <a:ext cx="71168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Eyre and Far North Local Health Network from 1 July 2019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13" name="Content Placeholder 2"/>
          <p:cNvSpPr/>
          <p:nvPr/>
        </p:nvSpPr>
        <p:spPr>
          <a:xfrm>
            <a:off x="2266920" y="1576440"/>
            <a:ext cx="6408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air: Michele Smith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anne Dunchue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ruce Green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ina Miller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r David Mills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amie Siviour OAM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ris Sweet 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ief Executive Officer: Verity Paterson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tle 1"/>
          <p:cNvSpPr/>
          <p:nvPr/>
        </p:nvSpPr>
        <p:spPr>
          <a:xfrm>
            <a:off x="2266920" y="549360"/>
            <a:ext cx="69739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Flinders and Upper North Local Health Network from 1 July 2019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15" name="Content Placeholder 2"/>
          <p:cNvSpPr/>
          <p:nvPr/>
        </p:nvSpPr>
        <p:spPr>
          <a:xfrm>
            <a:off x="2266920" y="1576440"/>
            <a:ext cx="5616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air: Bevan Francis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arnett Brady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sy Graham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ohn Lynch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erri Malone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aryn Reid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rk Whitfield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ief Executive Officer: Ros McRae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tle 1"/>
          <p:cNvSpPr/>
          <p:nvPr/>
        </p:nvSpPr>
        <p:spPr>
          <a:xfrm>
            <a:off x="2266920" y="549360"/>
            <a:ext cx="69739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Riverland Mallee Coorong Local Health Network from 1 July 2019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17" name="Content Placeholder 2"/>
          <p:cNvSpPr/>
          <p:nvPr/>
        </p:nvSpPr>
        <p:spPr>
          <a:xfrm>
            <a:off x="2266920" y="1576440"/>
            <a:ext cx="5616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air: Dr Peter Joyner OAM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laine Ashworth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laudia Goldsmith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elanie Ottaway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red Toogood 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ief Executive Officer: Wayne Champion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le 1"/>
          <p:cNvSpPr/>
          <p:nvPr/>
        </p:nvSpPr>
        <p:spPr>
          <a:xfrm>
            <a:off x="2266920" y="549360"/>
            <a:ext cx="69739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South East Local Health Network from 1 July 2019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2266920" y="1576440"/>
            <a:ext cx="5616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air: Grant King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lenn Brown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ndy Cook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ohn Irving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r Anne Johnson AM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r Andrew Saies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ief Executive Officer: Ngaire Buchanan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le 1"/>
          <p:cNvSpPr/>
          <p:nvPr/>
        </p:nvSpPr>
        <p:spPr>
          <a:xfrm>
            <a:off x="2268360" y="549360"/>
            <a:ext cx="6972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Yorke and Northern Local Health Network from 1 July 2019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2268360" y="1608120"/>
            <a:ext cx="5616720" cy="38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air: Vanessa Boully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ulianne Badenoch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hane Mohor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z Malcolm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ohn Voumard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Yvonne Warncken 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ief Executive Officer: Roger Kirchner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2340000" y="333360"/>
            <a:ext cx="576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Aboriginal Health from 1 July 2019: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Regional LHNS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1835280" y="1413000"/>
            <a:ext cx="705780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ix new positions of Director of Aboriginal Health proposed – one for each LHN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rector proposed to: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ort directly to the LHN Chief Executive Officer and sit on the Executive Leadership Team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 responsible for Aboriginal Health Services including projects, collaboration and partnerships, strategy, monitoring and standards, and lead regionally-based teams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im to build capacity and capability in the regions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tle 1"/>
          <p:cNvSpPr/>
          <p:nvPr/>
        </p:nvSpPr>
        <p:spPr>
          <a:xfrm>
            <a:off x="2484360" y="260280"/>
            <a:ext cx="61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Aboriginal Health from 1 July 2019: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Rural Support Service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2050920" y="1197000"/>
            <a:ext cx="684216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rector of Aboriginal Health and small team proposed to support high-level strategic planning, policy, consumer engagement and advocacy services on a country-wide basis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im to strengthen collaboration, networking, and the ability of the regional LHNs to support local communities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tailed design of the new LHNs and Rural Support Service will be finalised shortly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pportunities to engage with these new organisations from the start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le 1"/>
          <p:cNvSpPr/>
          <p:nvPr/>
        </p:nvSpPr>
        <p:spPr>
          <a:xfrm>
            <a:off x="2268360" y="549360"/>
            <a:ext cx="6972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Aboriginal Health Community and Consumer Engagement Strategy (AHCCE)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2268360" y="1557360"/>
            <a:ext cx="672336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ponding to HPC strategy review, AHCCE Strategy has been embedded in Country Health’s overall Consumer and Community Engagement (CCE) Strategy, to ensure its longevity and binding application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Consumer and Community Engagement Strategy will play a key role in informing each regional Board as they develop and implement their engagement strategies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pportunities to engage with the new LHNs and influence the development of those strategies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43360" y="2420640"/>
            <a:ext cx="5084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0092cf"/>
                </a:solidFill>
                <a:latin typeface="Arial"/>
              </a:rPr>
              <a:t>Questions</a:t>
            </a:r>
            <a:endParaRPr b="0" lang="en-US" sz="6000" spc="-1" strike="noStrike">
              <a:solidFill>
                <a:srgbClr val="0092c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92cf"/>
                </a:solidFill>
                <a:latin typeface="Arial"/>
              </a:rPr>
              <a:t>What is happening?</a:t>
            </a: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24000" y="1434600"/>
            <a:ext cx="6840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rom 1 July 2019, six regional Local Health Networks (LHNs) will replace Country Health SA L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ach LHN will be led by a skills-based Governing Board, responsible and accountable for managing and providing health services in country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Rural Support Service will provide clinical and corporate advice and expertise once for all six – hosted by one of the regional LH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92cf"/>
                </a:solidFill>
                <a:latin typeface="Arial"/>
              </a:rPr>
              <a:t>How did we get here? </a:t>
            </a: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907640" y="1504440"/>
            <a:ext cx="640908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ate Government 2018 election commitmen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olve the public health system through the establishment of Statewide, Metropolitan and Regional LHN Governing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t responsibility and accountability at the local level, with strengthened over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 patient safety and hold Governing Boards accountable for delivering real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57932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63840" y="-5040"/>
            <a:ext cx="6572160" cy="13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92cf"/>
                </a:solidFill>
                <a:latin typeface="Arial"/>
              </a:rPr>
              <a:t>      </a:t>
            </a:r>
            <a:r>
              <a:rPr b="0" lang="en-AU" sz="3200" spc="-1" strike="noStrike">
                <a:solidFill>
                  <a:srgbClr val="0092cf"/>
                </a:solidFill>
                <a:latin typeface="Arial"/>
              </a:rPr>
              <a:t>Expected Benefits  </a:t>
            </a: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2556000" y="1197000"/>
            <a:ext cx="556416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 improve value in terms of quality and safety of services, costs and service accessibility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 increase clinician and community engagement in service delivery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 ensure greater service responsiveness and innovation in the way services are provided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 increase community confidence in the State’s public health system.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ca0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</p:txBody>
      </p:sp>
      <p:pic>
        <p:nvPicPr>
          <p:cNvPr id="99" name="Picture 5" descr="See the source image"/>
          <p:cNvPicPr/>
          <p:nvPr/>
        </p:nvPicPr>
        <p:blipFill>
          <a:blip r:embed="rId1"/>
          <a:stretch/>
        </p:blipFill>
        <p:spPr>
          <a:xfrm>
            <a:off x="4457880" y="5445000"/>
            <a:ext cx="17586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71640" y="-3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2cf"/>
                </a:solidFill>
                <a:latin typeface="Arial"/>
              </a:rPr>
              <a:t>Progress to date </a:t>
            </a: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84000" y="907920"/>
            <a:ext cx="61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spcAft>
                <a:spcPts val="100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onal LHN Chairs, Chief Executives and Board Members appointed and working to support tran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spcAft>
                <a:spcPts val="100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onal LHN Boards have started to meet in transition role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spcAft>
                <a:spcPts val="100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LHNs and Rural Support Service functions and structures designed and consulted 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spcAft>
                <a:spcPts val="100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ation underway to transition staff and functions to new arrangem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spcAft>
                <a:spcPts val="100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staff to be realigned to the LHNs or Rural Support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le 1"/>
          <p:cNvSpPr/>
          <p:nvPr/>
        </p:nvSpPr>
        <p:spPr>
          <a:xfrm>
            <a:off x="2627280" y="404640"/>
            <a:ext cx="6369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Governance: LHN Board Composition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03" name="Content Placeholder 2"/>
          <p:cNvSpPr/>
          <p:nvPr/>
        </p:nvSpPr>
        <p:spPr>
          <a:xfrm>
            <a:off x="2268360" y="1125360"/>
            <a:ext cx="648036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tween six to eight members, appointed on merit, with experience/expertise in at least one of the following areas: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lth management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nical governance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ercial management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ncial management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w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sion of health services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 other relevant experience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wo must be health professionals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ne must have expertise, knowledge or experience in Aboriginal health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ca095"/>
              </a:solidFill>
              <a:latin typeface="Arial"/>
            </a:endParaRPr>
          </a:p>
          <a:p>
            <a:pPr lvl="1" marL="601560" indent="-231480">
              <a:spcBef>
                <a:spcPts val="374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aca095"/>
              </a:solidFill>
              <a:latin typeface="Arial"/>
            </a:endParaRPr>
          </a:p>
          <a:p>
            <a:pPr lvl="1" marL="601560" indent="-231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5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tle 1"/>
          <p:cNvSpPr/>
          <p:nvPr/>
        </p:nvSpPr>
        <p:spPr>
          <a:xfrm>
            <a:off x="2411280" y="272880"/>
            <a:ext cx="662472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Governance: Governing Board Responsibilities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05" name="Content Placeholder 2"/>
          <p:cNvSpPr/>
          <p:nvPr/>
        </p:nvSpPr>
        <p:spPr>
          <a:xfrm>
            <a:off x="2050920" y="1087560"/>
            <a:ext cx="640872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45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rom 1 July 2019, each Board will be accountable for the delivery of health services within its area of responsibility, including: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45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</p:txBody>
      </p:sp>
      <p:pic>
        <p:nvPicPr>
          <p:cNvPr id="106" name="Picture 7" descr="Image result for inspect png"/>
          <p:cNvPicPr/>
          <p:nvPr/>
        </p:nvPicPr>
        <p:blipFill>
          <a:blip r:embed="rId1"/>
          <a:stretch/>
        </p:blipFill>
        <p:spPr>
          <a:xfrm>
            <a:off x="5508720" y="5445000"/>
            <a:ext cx="1800000" cy="1516320"/>
          </a:xfrm>
          <a:prstGeom prst="rect">
            <a:avLst/>
          </a:prstGeom>
          <a:ln w="0">
            <a:noFill/>
          </a:ln>
        </p:spPr>
      </p:pic>
      <p:sp>
        <p:nvSpPr>
          <p:cNvPr id="107" name="Content Placeholder 2"/>
          <p:cNvSpPr/>
          <p:nvPr/>
        </p:nvSpPr>
        <p:spPr>
          <a:xfrm>
            <a:off x="1692360" y="2637000"/>
            <a:ext cx="6013440" cy="38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451"/>
              </a:spcAft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the health budget for its area of responsibility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451"/>
              </a:spcAft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ely engage with its communities and frontline health professionals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451"/>
              </a:spcAft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tiate an annual Service Agreement and monitor and report on progress against key performance targets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2484360" y="260280"/>
            <a:ext cx="6756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Clinician and Consumer Engagement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09" name="Content Placeholder 2"/>
          <p:cNvSpPr/>
          <p:nvPr/>
        </p:nvSpPr>
        <p:spPr>
          <a:xfrm>
            <a:off x="2268360" y="689040"/>
            <a:ext cx="604872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ca095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oards will be required to develop and publish: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linician engagement strategy to promote consultation with health professionals working in the LHN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sumer and community engagement strategy to promote consultation with health consumers and the community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45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rategies must be developed in consultation with communities and stakeholders, then implemented, monitored and reviewed regularly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tle 1"/>
          <p:cNvSpPr/>
          <p:nvPr/>
        </p:nvSpPr>
        <p:spPr>
          <a:xfrm>
            <a:off x="2266920" y="549360"/>
            <a:ext cx="66261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Barossa Hills Fleurieu LHN from 1 July 2019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11" name="Content Placeholder 2"/>
          <p:cNvSpPr/>
          <p:nvPr/>
        </p:nvSpPr>
        <p:spPr>
          <a:xfrm>
            <a:off x="2266920" y="1576440"/>
            <a:ext cx="648180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air: Juliet Brown OAM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u Blackwell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rol Gaston AM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r Roger Sexton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oe Ullianich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obert Zadow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ief Executive Officer: Rebecca Graham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9T23:29:55Z</dcterms:created>
  <dc:creator>Cath Steenwyk</dc:creator>
  <dc:description>This is one of 4 colour variations of the SA Health PowerPoint template.</dc:description>
  <cp:keywords>powerpoint presentation sa health templates</cp:keywords>
  <dc:language>en-US</dc:language>
  <cp:lastModifiedBy>Robinson, Jane (Health)</cp:lastModifiedBy>
  <cp:lastPrinted>2018-09-20T06:57:47Z</cp:lastPrinted>
  <dcterms:modified xsi:type="dcterms:W3CDTF">2019-05-08T08:34:28Z</dcterms:modified>
  <cp:revision>315</cp:revision>
  <dc:subject>PowerPoint Template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usiness Unit">
    <vt:lpwstr/>
  </property>
  <property fmtid="{D5CDD505-2E9C-101B-9397-08002B2CF9AE}" pid="3" name="Directorate">
    <vt:lpwstr>Strategy and Reform</vt:lpwstr>
  </property>
  <property fmtid="{D5CDD505-2E9C-101B-9397-08002B2CF9AE}" pid="4" name="Next Review">
    <vt:lpwstr/>
  </property>
  <property fmtid="{D5CDD505-2E9C-101B-9397-08002B2CF9AE}" pid="5" name="PublishingExpirationDate">
    <vt:lpwstr/>
  </property>
  <property fmtid="{D5CDD505-2E9C-101B-9397-08002B2CF9AE}" pid="6" name="PublishingStartDate">
    <vt:lpwstr/>
  </property>
  <property fmtid="{D5CDD505-2E9C-101B-9397-08002B2CF9AE}" pid="7" name="Region">
    <vt:lpwstr>CHSA</vt:lpwstr>
  </property>
  <property fmtid="{D5CDD505-2E9C-101B-9397-08002B2CF9AE}" pid="8" name="Topic">
    <vt:lpwstr>;#Corporate;#</vt:lpwstr>
  </property>
  <property fmtid="{D5CDD505-2E9C-101B-9397-08002B2CF9AE}" pid="9" name="_dlc_DocId">
    <vt:lpwstr>3VDTU7EN5FH7-1752784833-1</vt:lpwstr>
  </property>
  <property fmtid="{D5CDD505-2E9C-101B-9397-08002B2CF9AE}" pid="10" name="_dlc_DocIdItemGuid">
    <vt:lpwstr>d424661e-b98f-4416-9405-8f90ac764e81</vt:lpwstr>
  </property>
  <property fmtid="{D5CDD505-2E9C-101B-9397-08002B2CF9AE}" pid="11" name="_dlc_DocIdUrl">
    <vt:lpwstr>https://sagov.sharepoint.com/sites/CHSA/OurOrg/Comms/_layouts/15/DocIdRedir.aspx?ID=3VDTU7EN5FH7-1752784833-1, 3VDTU7EN5FH7-1752784833-1</vt:lpwstr>
  </property>
</Properties>
</file>